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059-884C-470D-889A-8B31A14C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C8E8-AF61-4805-87CB-9E2CCEB7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D941-C720-47CC-A30B-976EE27A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414-ED02-4EFA-9A39-61CC48A5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AFB-8CC3-4397-B03D-9524B41E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5E5-61A8-40E6-B010-2ACC64A7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319-F5AB-4D38-B08E-B20448DE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131-E82A-4FF6-9FF7-47323DF0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05A-3716-473C-97C9-BA4C7213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C74-7F9D-4EBA-9C25-D1CC6F0A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223-A081-4825-B9FD-34F7242D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3FDC-7DD5-464E-94BF-B667DD9B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72EB-F8F9-44C3-B401-550FE46B4B3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89000"/>
            <a:ext cx="9144000" cy="481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روحُ الر بِّ عَـليَّ 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42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 الرب عليَّ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وأرسلني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بشّر الـمساكين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لأشفي القلوب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لوباً كسيرة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عتقَ الأسرى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هب العميانَ البصر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42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 الرب عليَّ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وأرسلني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بشّر الـمساكين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330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يف يؤمنون إن لم يسمعوا كيف يسمعون بلا مبشّر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بشّرون إن لم يرسَلو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142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 الرب عليَّ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وأرسلني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بشّر الـمساكين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376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ا أجمل أقدام الـمبشري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ـمبشرين بالسلا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ـمبشرين بالخير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42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 الرب عليَّ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وأرسلني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بشّر الـمساكين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ا أنا مرسل ملاكي يهيّئ الطريق أمامي وللوقت يأتي السيد الذي تلتمسونه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أرسل ومن ينطلق؟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63120" y="-171360"/>
            <a:ext cx="6081480" cy="68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لت:</a:t>
            </a:r>
            <a:endParaRPr b="0" lang="en-US" sz="11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ا أنا ذا</a:t>
            </a:r>
            <a:endParaRPr b="0" lang="en-US" sz="11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رسلني.</a:t>
            </a:r>
            <a:endParaRPr b="0" lang="en-US" sz="1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4:49:48Z</dcterms:created>
  <dc:creator>Charbel Azar</dc:creator>
  <dc:description/>
  <dc:language>en-US</dc:language>
  <cp:lastModifiedBy>-</cp:lastModifiedBy>
  <dcterms:modified xsi:type="dcterms:W3CDTF">2002-12-16T07:38:35Z</dcterms:modified>
  <cp:revision>7</cp:revision>
  <dc:subject/>
  <dc:title>Slide 1</dc:title>
</cp:coreProperties>
</file>